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F76B-33AB-4BAC-9D2C-91DF9035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B413-0651-43D9-9596-74EE8193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C152-5680-4499-8DF2-6ABF1842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6E89-6DF5-4BC1-9CC8-39942151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74CD-D16E-418F-BC80-500B3E91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2ADE-173C-4FBD-8037-79BB31E0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0679-DE88-4EE3-82B4-89FDE8EF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7258-B0CF-4A8A-AC8F-59FD86CB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EE1C-9252-4218-AC76-432F673C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810D-EB97-475D-83C9-01C77640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E4BB-E6C2-4C32-9291-713F9B71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58E1-4A7E-4F59-9D11-A2C84FDE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E6C5-B74C-4D81-85BE-AEA88B789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7XbOCT-3oY" TargetMode="External"/><Relationship Id="rId2" Type="http://schemas.openxmlformats.org/officeDocument/2006/relationships/hyperlink" Target="http://www.youtube.com/watch?v=ezJkRDQmL2Y&amp;feature=fvw" TargetMode="External"/><Relationship Id="rId3" Type="http://schemas.openxmlformats.org/officeDocument/2006/relationships/hyperlink" Target="http://www.youtube.com/watch?v=DFdg7OyHNos&amp;feature=related" TargetMode="External"/><Relationship Id="rId4" Type="http://schemas.openxmlformats.org/officeDocument/2006/relationships/hyperlink" Target="http://www.youtube.com/watch?v=S6_LIG-IIwM&amp;feature=PlayList&amp;p=E06C74ECA19340F4&amp;playnext=1&amp;playnext_from=PL&amp;index=16" TargetMode="External"/><Relationship Id="rId5" Type="http://schemas.openxmlformats.org/officeDocument/2006/relationships/hyperlink" Target="http://www.youtube.com/watch?v=v6EiYbRTv4M" TargetMode="External"/><Relationship Id="rId6" Type="http://schemas.openxmlformats.org/officeDocument/2006/relationships/hyperlink" Target="http://www.youtube.com/watch?v=vyHJ7XU5eLE&amp;feature=related" TargetMode="External"/><Relationship Id="rId7" Type="http://schemas.openxmlformats.org/officeDocument/2006/relationships/hyperlink" Target="http://www.youtube.com/watch?v=n90KkM2XVHw&amp;feature=PlayList&amp;p=CE794B5FC66E62D5&amp;playnext=1&amp;playnext_from=PL&amp;index=59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self map - Who am I"/>
          <p:cNvPicPr/>
          <p:nvPr/>
        </p:nvPicPr>
        <p:blipFill>
          <a:blip r:embed="rId1"/>
          <a:stretch/>
        </p:blipFill>
        <p:spPr>
          <a:xfrm>
            <a:off x="609480" y="0"/>
            <a:ext cx="7391520" cy="685152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3276720" y="3809880"/>
            <a:ext cx="25146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Arial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opi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se one piece of work. If art describe the art piece, if music describe the music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the artist has used one or more of the seven influences on Canadian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how you think the artist has reflected Canada or showed being Canadian in their ar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don’t think they have done this, write why you don’t think they d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way…. Give examples to back up your opin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See 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tereotyp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a single statement or attitude about a group of people that does not recognize the complex, multidimensional nature of human being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be either positive or negative, but they are all unfair and misleading. Stereotypes reduce individuals to a rigid, inflexible image; without unique attribu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ggest that people or groups of people are the same, when, in fact, they are quite differen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Brainstorm Canadian Stereotypes based 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ce – landscape,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munity – region, prov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anguage – ethnic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istory – local and national and 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eople – politicians, leaders, h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overnment – type of government,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pportunities and challenges in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end a message about Canadian Ident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 story based on Canadian stereo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clude dialogue e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500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ree sentence para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ontent Placeholder 3" descr="New Image.JPG"/>
          <p:cNvPicPr/>
          <p:nvPr/>
        </p:nvPicPr>
        <p:blipFill>
          <a:blip r:embed="rId1"/>
          <a:stretch/>
        </p:blipFill>
        <p:spPr>
          <a:xfrm>
            <a:off x="380880" y="206280"/>
            <a:ext cx="8458200" cy="64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380880" y="990720"/>
            <a:ext cx="8229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wrote a paragraph to introduce yourself in the forum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hat parts do you think identify you as Canadia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re there any things you wrote about that are unique to here and would not be part of life in Colombia or Scot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85800" y="3049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Test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anada – Multiple Identities are Influenced b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ce – landscape,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munity – region, prov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anguage – ethnic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istory – local and national and 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eople – politicians, leaders, h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overnment – type of government,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pportunities and challenges in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think our artists, authors, musicians show Canadian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t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The Contrary.jpg"/>
          <p:cNvPicPr/>
          <p:nvPr/>
        </p:nvPicPr>
        <p:blipFill>
          <a:blip r:embed="rId1"/>
          <a:stretch/>
        </p:blipFill>
        <p:spPr>
          <a:xfrm>
            <a:off x="4800600" y="2133720"/>
            <a:ext cx="3886200" cy="3638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Casson.jpg"/>
          <p:cNvPicPr/>
          <p:nvPr/>
        </p:nvPicPr>
        <p:blipFill>
          <a:blip r:embed="rId2"/>
          <a:stretch/>
        </p:blipFill>
        <p:spPr>
          <a:xfrm>
            <a:off x="533520" y="2133720"/>
            <a:ext cx="37512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Canadian Identity mean to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rote a paragraph to introduce yoursel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arts do you think identify you as Canadia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any things you wrote about that are unique to here and would not be part of life in Colombia or Scot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rovincial and Regional Identity</a:t>
            </a:r>
            <a:br>
              <a:rPr sz="4400"/>
            </a:br>
            <a:r>
              <a:rPr b="0" lang="en-CA" sz="2000" spc="-1" strike="noStrike">
                <a:solidFill>
                  <a:srgbClr val="ff0000"/>
                </a:solidFill>
                <a:latin typeface="Arial"/>
              </a:rPr>
              <a:t>Warning – Not your type of 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arewell to Nova Sco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d River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our Strong Wi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onkey R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Tillson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Squid Jigging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Blue Canadian Roc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are the seven influences on Canadian Identity reprented through these so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adian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533520" y="1295280"/>
            <a:ext cx="815328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hildrens’ Storie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This one needs to be in your notebook!!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The  Hockey Sw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Arial"/>
              </a:rPr>
              <a:t>http://www.nfb.ca/film/sweater</a:t>
            </a: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istorical Bal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eter Ember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http://agora.virtualmuseum.ca/edu/ViewLoitDa.do;jsessionid=58A432E0FB58AD7DB89E5126F30D77C5?method=preview&amp;agora=1&amp;id=1527&amp;lessonId=188&amp;lang=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remation of Sam McGee Rober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8yIqwyR1ays&amp;feature=PlayList&amp;p=BB59AA17AE6F5930&amp;playnext=1&amp;playnext_from=PL&amp;index=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odern Story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orthwest Pa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th-WDf42rG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Artis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Musicia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Wri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685800" y="60948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ick tw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have chosen two fields. For each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ose an artist or writer or musician or act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earch information about the artist. Use Wikipedia as a start but you must use two non-Wikipedia web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ect information and put into a Word Docume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yle (gen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th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hey live in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L’s you used (with the date you accessed th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one example of their artwork, writing or example of acting to your folder (do not embed it into the Word Docu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3:09:30Z</dcterms:created>
  <dc:creator>NBDOE</dc:creator>
  <dc:description/>
  <dc:language>en-US</dc:language>
  <cp:lastModifiedBy>DT06</cp:lastModifiedBy>
  <dcterms:modified xsi:type="dcterms:W3CDTF">2010-05-27T18:22:05Z</dcterms:modified>
  <cp:revision>42</cp:revision>
  <dc:subject/>
  <dc:title>Canadian Identity</dc:title>
</cp:coreProperties>
</file>